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177E-58DB-4711-BFFA-AB5BD4369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C5A9-F8A1-43B6-B91A-D96FD94EC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9626-3952-4148-A1ED-BF712C6E7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Freud’s view of personality structure, and discuss the interactions of the id, ego and the super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3596-8AA4-46FE-95D9-9EADCD815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0DDD-2611-457E-8A55-41FAC66CC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Identify Freud’s psychosexual stages of development, and describe the effects of fixation on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A632-13D6-411C-BA57-1D83D24E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13A2-F8E1-4B00-9B50-FD586FDC4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F075-0240-4FE2-80D9-3B0115C7C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0952-477B-4124-AA55-FCC904B65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function of defense mechanisms, and identify six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4A1F-8633-4F6C-851A-B766842E2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A143-5AE7-4FC0-A635-61FC1D7D0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1DA9-CD4F-4267-BDAE-6E5E99A65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Contrast the views of the neo-Freudians and psychodynamic theorists with those of Freud’s original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5F8-BC58-43F0-8FD0-FC446AE07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46A9-76D8-4A87-BE0F-B19A7C84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7A36-6B60-4722-A38C-B83BA3F2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1595-BD33-4D90-A93F-50B10D12C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wo projective tests used to assess personality, and discuss some criticisms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BE79-988B-43F2-ACFD-B8D28F01C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AC34-A792-4DCB-8DE1-461C7AA6B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8A71-827F-418F-8808-087E4EC9A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9A1A-E7A2-4C46-ACD4-71675CA2C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Explain how Freud’s experiences in private practice led to his theory of psycho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84AF-D760-4F6C-B3D0-5967B9417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B670-A662-4C42-8004-6440D53EB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Freud’s view of the mind as an iceberg, and explain how he used this image to represent conscious and unconscious regions of the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205E-D591-4939-8022-E08FD1569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4313-6F73-4598-B91A-BFB14C584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3905-FC8F-4093-B173-FBFDF83D4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D4A-724F-4CCB-B17A-AFEBEE19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E41-FE7C-4B31-956D-0857FB6D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FF4-10CF-460D-B120-36F3B8C8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CFD-4964-4983-A585-17E33588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25E-939D-496B-B5C6-AF5AD4D0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B88-6660-4838-A3CF-4A5036A1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ECD-2C13-49B1-A2DB-67402EED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7B1-9C5E-4209-8977-8A191039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BC1-3AA6-46A6-ABEB-EF1FB00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BE8-263D-49FF-B6A3-81B2EF36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98D-48EB-404F-ACC3-D3461A4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0B7-AEE6-43DA-98EC-F827BDED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2F0-D761-48C7-92B0-70983EF8B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9BD2-A31F-472B-9F2B-D0AB18FA0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dynamic 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_oval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</a:rPr>
              <a:t>Sigmund Fre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B384-2AD7-405E-BC5E-AC0925905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ersonality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onality develops as a result of our efforts to resolve conflicts between our biological impulses (id) and social restraints (supereg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MyersPsy8e_fig"/>
          <p:cNvPicPr/>
          <p:nvPr/>
        </p:nvPicPr>
        <p:blipFill>
          <a:blip r:embed="rId1"/>
          <a:stretch/>
        </p:blipFill>
        <p:spPr>
          <a:xfrm>
            <a:off x="2895480" y="3048120"/>
            <a:ext cx="4726080" cy="3565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6429240" y="3048120"/>
            <a:ext cx="1279800" cy="356544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756E-6550-4487-8C5A-F9904E1A6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d, Ego and Supere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18760"/>
            <a:ext cx="7772400" cy="16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unconsciously strives to satisfy basic sexual and aggressive drives, operating on the pleasure principle, demanding immediate grat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71400" y="3352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ego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functions as the “executive” and mediates the demands of the id and super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1400" y="4952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 superego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provides standards for judgment (the conscience) and for future aspi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96C2-347A-4431-850A-CED0AC504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ersonality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eud believed that personality formed during the first few years of life divided into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osexual stag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 During these stages the id’s pleasure-seeking energies focus on pleasure sensitive body areas called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erogenous zon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9985-A19E-4742-8943-7D0E88FA3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sexual St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MyersPsy8e_Table"/>
          <p:cNvPicPr/>
          <p:nvPr/>
        </p:nvPicPr>
        <p:blipFill>
          <a:blip r:embed="rId1"/>
          <a:stretch/>
        </p:blipFill>
        <p:spPr>
          <a:xfrm>
            <a:off x="671400" y="2625840"/>
            <a:ext cx="7772400" cy="3546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671400" y="1600200"/>
            <a:ext cx="77724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eud divided the development of personality into five psychosexual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D83D-6607-43DE-BBC3-DC221B794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edipus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boy’s sexual desire for his mother and feelings of jealousy and hatred for the rival father. A girl’s desire for her father is called the Electra compl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FB15-44CC-487A-B8B7-E72566753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hildren cope with threatening feelings by repressing them and by identifying with the rival parent. Through this process of identification, their superego gains strength that incorporates their parents’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MyersPsy8e_15UN05"/>
          <p:cNvPicPr/>
          <p:nvPr/>
        </p:nvPicPr>
        <p:blipFill>
          <a:blip r:embed="rId1"/>
          <a:stretch/>
        </p:blipFill>
        <p:spPr>
          <a:xfrm>
            <a:off x="4876920" y="1595520"/>
            <a:ext cx="3809880" cy="3524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 rot="5400000">
            <a:off x="7607160" y="379404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om the K. Vandervelde private 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06E5-71DA-4EC6-A961-C5148A3EF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efense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ego’s protective methods of reducing anxiety by unconsciously distorting re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7140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Repression</a:t>
            </a:r>
            <a:r>
              <a:rPr b="0" lang="en-US" sz="28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anishes anxiety-arousing thoughts, feelings, and memories from conscious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71400" y="41911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leads an individual faced with anxiety to retreat to a more infantile psychosexual s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C74F-B47E-4C4D-AEBF-1A9F0CF2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efense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71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Reaction Forma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auses the ego to unconsciously switch unacceptable impulses into their opposites. People may express feelings of purity when they may be suffering anxiety from unconscious feelings about s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71400" y="4343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rojection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ads people to disguise their own threatening impulses by attributing them to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2B20-3BEA-4073-B657-D24EE3713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efense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1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5.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Rationalization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ffers self-justifying explanations in place of the real, more threatening, unconscious reasons for one’s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1400" y="38098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6.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isplacement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hifts sexual or aggressive impulses toward a more acceptable or less threatening object or person, redirecting anger toward a safer outl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BCCE-7B79-4910-BB51-B442D6060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Neo-Freu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Jung believed in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ollective unconscious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which contained a common reservoir of images derived from our species’ past. This is why many cultures share certain myths and images such as the mother being a symbol of nurtur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MyersPsy8e_15UN11"/>
          <p:cNvPicPr/>
          <p:nvPr/>
        </p:nvPicPr>
        <p:blipFill>
          <a:blip r:embed="rId1"/>
          <a:stretch/>
        </p:blipFill>
        <p:spPr>
          <a:xfrm>
            <a:off x="4997520" y="1600200"/>
            <a:ext cx="3489120" cy="3886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489280" y="558468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arl Jung (1875-196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 rot="5400000">
            <a:off x="6743160" y="3596760"/>
            <a:ext cx="372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chive of the History of American Psychology/ University of Ak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54A1-0736-433E-86A8-947C71C2E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The Psychoanalytic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loring the Unconsc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loring the Neo-Freudian and Psychodynamic The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sessing Unconscious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aluating the Psychoanalytic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9793-FF61-40BB-8B07-A3ABC0511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Neo-Freu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ke Freud, Adler believed in childhood tensions. However, these tensions were social in nature and not sexual. A child struggles with an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feriority complex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during growth and strives for superiority and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MyersPsy8e_15UN08"/>
          <p:cNvPicPr/>
          <p:nvPr/>
        </p:nvPicPr>
        <p:blipFill>
          <a:blip r:embed="rId1"/>
          <a:stretch/>
        </p:blipFill>
        <p:spPr>
          <a:xfrm>
            <a:off x="5043600" y="1600200"/>
            <a:ext cx="3419280" cy="3889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5275800" y="5533920"/>
            <a:ext cx="32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lfred Adler (1870-193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 rot="5400000">
            <a:off x="7742160" y="4566960"/>
            <a:ext cx="168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tional Library of Medic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1C17-DFC0-48F8-AB7D-1EE401FDE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Neo-Freu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ke Adler, Horney believed in the social aspects of childhood growth and development. She countered Freud’s assumption that women have weak superegos and suffer from “penis env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MyersPsy8e_15UN09"/>
          <p:cNvPicPr/>
          <p:nvPr/>
        </p:nvPicPr>
        <p:blipFill>
          <a:blip r:embed="rId1"/>
          <a:srcRect l="8804" t="0" r="7097" b="0"/>
          <a:stretch/>
        </p:blipFill>
        <p:spPr>
          <a:xfrm>
            <a:off x="5016600" y="1600200"/>
            <a:ext cx="3456000" cy="38894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5169960" y="556272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Karen Horney (1885-195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 rot="5400000">
            <a:off x="7717320" y="4561560"/>
            <a:ext cx="175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Bettmann Archive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A63A-E936-40E6-91FF-263EDE80B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ssessing Unconscious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aluating personality from an unconscious mind’s perspective would require a psychological instrument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 (projective tests)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at would reveal the hidden unconscious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C30E-113C-4B3F-9186-B6ECE1586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ematic Apperception Tes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(T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4360" y="1595160"/>
            <a:ext cx="830592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ed by Henry Murray, the TAT is a projective test in which people express their inner feelings and interests through the stories they make up about ambiguous sc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8" descr="TAT"/>
          <p:cNvPicPr/>
          <p:nvPr/>
        </p:nvPicPr>
        <p:blipFill>
          <a:blip r:embed="rId1"/>
          <a:stretch/>
        </p:blipFill>
        <p:spPr>
          <a:xfrm>
            <a:off x="1357200" y="3581280"/>
            <a:ext cx="6389640" cy="2881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 rot="5400000">
            <a:off x="6722640" y="5313240"/>
            <a:ext cx="20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w Merrim/ Photo Researche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7A28-F394-4354-AA17-548265A53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orschach Inkblot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ost widely used projective test uses a set of 10 inkblots and was designed by Hermann Rorschach. It seeks to identify people’s inner feelings by analyzing their interpretations of the bl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Rorschach Inkblot Test"/>
          <p:cNvPicPr/>
          <p:nvPr/>
        </p:nvPicPr>
        <p:blipFill>
          <a:blip r:embed="rId1"/>
          <a:stretch/>
        </p:blipFill>
        <p:spPr>
          <a:xfrm>
            <a:off x="1157400" y="3414600"/>
            <a:ext cx="6819840" cy="288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 rot="5400000">
            <a:off x="6830640" y="5146560"/>
            <a:ext cx="20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w Merrim/ Photo Researche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B9F8-6B21-4C5A-8D6A-DB931DC88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rojective Tests: Critic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 argue that projective tests lack bot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reliabilit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consistency of results)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validity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(predicting what it is supposed t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7140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evaluating the same patient, even trained raters come up with different interpretations (reliabilit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71400" y="5029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ojective tests may misdiagnose a normal individual as pathological (validit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Times New Roman"/>
              </a:rPr>
              <a:t>Basic 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dult personality and thus abnormalities  are a result of childhood 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 personality is largely determined by the age of 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ities are caused by unconscious 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A95A-A4BE-4061-AC62-A3E229B54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6B09-164B-4869-9A57-D3FBF78F9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dynamic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his clinical practice, Freud encountered patients suffering from nervous disorders. Their complaints could not be explained in terms of purely physical c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26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562720" y="56386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gmund Fre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1856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un14-p490"/>
          <p:cNvPicPr/>
          <p:nvPr/>
        </p:nvPicPr>
        <p:blipFill>
          <a:blip r:embed="rId1"/>
          <a:stretch/>
        </p:blipFill>
        <p:spPr>
          <a:xfrm>
            <a:off x="4924440" y="1523880"/>
            <a:ext cx="363384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 rot="5400000">
            <a:off x="8195760" y="502992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lver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6218-AFD5-496F-B0FC-356A4A757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dynamic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eud’s clinical experience led him to develop the first comprehensive theory of personality, which included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unconscious mind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osexual stages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efense mech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26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562720" y="56386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gmund Fre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1856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un14-p490"/>
          <p:cNvPicPr/>
          <p:nvPr/>
        </p:nvPicPr>
        <p:blipFill>
          <a:blip r:embed="rId1"/>
          <a:stretch/>
        </p:blipFill>
        <p:spPr>
          <a:xfrm>
            <a:off x="4924440" y="1523880"/>
            <a:ext cx="363384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 rot="5400000">
            <a:off x="8195760" y="502992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lver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C60B-B9BA-40DE-ADC1-C41BFC87D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loring the Unconsci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9760" y="16002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servoir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unconscious mind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of mostly unacceptable thoughts, wishes, feelings, and memories. Freud asked patients to say whatever came to their mind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ree associa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in order to tap the unconsc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freud-couch"/>
          <p:cNvPicPr/>
          <p:nvPr/>
        </p:nvPicPr>
        <p:blipFill>
          <a:blip r:embed="rId1"/>
          <a:stretch/>
        </p:blipFill>
        <p:spPr>
          <a:xfrm>
            <a:off x="2585880" y="4029120"/>
            <a:ext cx="3948120" cy="2600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 rot="5400000">
            <a:off x="5532480" y="5479200"/>
            <a:ext cx="21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nglish.upenn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A390-F881-4682-BA3B-C3EA8A0FE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ream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other method to analyze the unconscious mind is through interpre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manifes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laten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ontents of d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BioPsych4e-Fig-14-13-0"/>
          <p:cNvPicPr/>
          <p:nvPr/>
        </p:nvPicPr>
        <p:blipFill>
          <a:blip r:embed="rId1"/>
          <a:srcRect l="8002" t="7334" r="8002" b="7334"/>
          <a:stretch/>
        </p:blipFill>
        <p:spPr>
          <a:xfrm>
            <a:off x="2543040" y="3200400"/>
            <a:ext cx="4038840" cy="3076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2322720" y="6194520"/>
            <a:ext cx="44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The Nightmare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 Henry Fuseli (179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B590-80F9-4DAD-BD72-8885F0BC5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process of free association (chain of thoughts) leads to painful, embarrassing unconscious memories. Once these memories are retrieved and released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treatment: psychoanalysi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the patient feels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in2WEB"/>
          <p:cNvPicPr/>
          <p:nvPr/>
        </p:nvPicPr>
        <p:blipFill>
          <a:blip r:embed="rId1"/>
          <a:srcRect l="4624" t="0" r="5113" b="3331"/>
          <a:stretch/>
        </p:blipFill>
        <p:spPr>
          <a:xfrm>
            <a:off x="5181480" y="1523880"/>
            <a:ext cx="3125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699D-B99A-4A9B-B3DB-C510766E2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odel of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685800" y="1295280"/>
            <a:ext cx="77724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ind is like an iceberg. It is mostly hidden, and below the surface lies the unconscious mind. The preconscious stores temporary mem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Mind"/>
          <p:cNvPicPr/>
          <p:nvPr/>
        </p:nvPicPr>
        <p:blipFill>
          <a:blip r:embed="rId1"/>
          <a:stretch/>
        </p:blipFill>
        <p:spPr>
          <a:xfrm>
            <a:off x="2903400" y="3048120"/>
            <a:ext cx="47167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</dc:creator>
  <dc:description/>
  <dc:language>en-US</dc:language>
  <cp:lastModifiedBy>Sarwat Sultana</cp:lastModifiedBy>
  <dcterms:modified xsi:type="dcterms:W3CDTF">2020-04-02T09:05:56Z</dcterms:modified>
  <cp:revision>986</cp:revision>
  <dc:subject/>
  <dc:title>Memory</dc:title>
</cp:coreProperties>
</file>